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2AE-472F-4FB6-A61F-B844703D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C31-45AD-46DE-BC04-B263215B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64E-FD79-4BC8-8C4A-68F32257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8B8-A588-4F08-95F2-7B3442B2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EC8-9791-4BD9-BB8C-D5B2C76E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62D-A8CB-4E21-8264-35F63A4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9AF-0CB0-477A-8985-2F182C55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749-24B2-4AF4-9BAF-F1F98167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449-BCED-4782-AC5E-47FC9EFF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675-D43F-4DE5-8218-1E9DF2B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4C5-C48D-4678-8C2D-5C78B56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D3C-A805-4C9D-A441-2DEEB34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81F7-9790-4A5C-B5E6-0AF83AD576AB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843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комендации по разработке компетентностно – ориентированн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И. И. Миронова, методист ГМЦ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5877000"/>
            <a:ext cx="1371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отличаются КОЗ от традиционны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ни базируются на знаниях и умениях, но требуют умения применять накопленные знания в практической деятельности. Назначение компетентностно-ориентированных заданий – включить учащихся в решение «жизненной»  проблемной задач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знать КОЗ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о-первых, это деятельностное задание; во-вторых, оно моделирует практическую, жизненную ситуацию; в-третьих, оно строится на актуальном для учащихся материале; в-четвёртых, его структура задаётся  особыми элемента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стимул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задачная формулировка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сточник информаци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бланк для выполнения задания (если оно подразумевает структурированный ответ)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нструмент проверк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иму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ирует ученика на выполнение задания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ключает описание ситуации или другие условия задач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оторые играют роль источника информаци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492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Функции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тивирует учащегося на выполнение задания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делирует практическую, жизненную ситуацию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и необходимости может нести функцию источника информации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365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Стимул должен: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быть кратким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Е отвлекать учащегося от содержа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ная формул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дачная формулировка понимается однозначно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четко соотносится с модельным ответом \ шкалой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ответствует возрасту учащегося, интересна учащемус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492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ы не можем проверять то, что не требовали в задачной формулировке. Мы обязаны проверять то, что предписывали в задачной формулировк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сточник информации  содержит информацию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обходимую для успешной деятельности учащего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 выполнению задани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492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обходим и достаточен для выполнения заданной деятельности, интересен, соответствует возрасту учащихся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8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а одном источнике (наборе источников) может строиться несколько заданий. Учащийся не должен быть знаком с источником до выполне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пределяет количество баллов за каждый этап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 общий итог в зависимости от сложности учебного материала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полнительных видов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92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нструментом проверки может быть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Ключ - используется для тестовых заданий закрытого типа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Модельный ответ – обычно используется для открытых тестовых заданий с кратки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Аналитическая шкала - используется для открытых тестовых заданий с развёрнуты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Бланк наблюдений за групповой работой – используется для оценки вклада каждого участника в групповой продукт и эффективности деятельности всей группы в цел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836640"/>
          <a:ext cx="8229600" cy="5632200"/>
        </p:xfrm>
        <a:graphic>
          <a:graphicData uri="http://schemas.openxmlformats.org/drawingml/2006/table">
            <a:tbl>
              <a:tblPr/>
              <a:tblGrid>
                <a:gridCol w="3790800"/>
                <a:gridCol w="1359000"/>
                <a:gridCol w="1494000"/>
                <a:gridCol w="158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правиль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частич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невер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большим количеством ошибок)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гнозирование содержания текста по заголовк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иск ключевых слов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сновная мысль текста по ключевым слова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а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еревод предложений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веты на вопросы по текст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КОЗ по биоло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ы, ученик 6 класса, помогаете своему младшему брату (сестре, другу, подруге) готовиться к викторине по природоведению. На вопрос: «Какой орган у картофеля мы употребляем в пищу?», получили ответ: «Плод». Этот ответ вас смутил, ведь вы знаете, что на самом деле плоды картофеля ядовиты и можно употреблять в пищу только клубни - видоизмененные побеги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На рисунке представлен клубень картофеля № 1, который является видоизмененным побегом, и побег дерева с почками № 2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нимательно рассмотрите рисунки. Что объединяет и в чём отличие биологических объектов, изображённых на рисунке? Почему нельзя назвать клубень картофеля плодом?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Представление результатов. Заполните таблицу: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637000"/>
          <a:ext cx="199368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1993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5373720"/>
          <a:ext cx="7777080" cy="6699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ходства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зличия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00280"/>
            <a:ext cx="7416720" cy="172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ланируемые результаты в рамка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компетентностного подход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933720"/>
            <a:ext cx="7416720" cy="1792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Фундаментальные цели образования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соответствующ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ниманию ключевых компетенц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8280360" cy="4319640"/>
          </a:xfrm>
          <a:prstGeom prst="downArrowCallout">
            <a:avLst>
              <a:gd name="adj1" fmla="val -14348"/>
              <a:gd name="adj2" fmla="val 19036"/>
              <a:gd name="adj3" fmla="val 17514"/>
              <a:gd name="adj4" fmla="val 79056"/>
            </a:avLst>
          </a:prstGeom>
          <a:gradFill rotWithShape="0">
            <a:gsLst>
              <a:gs pos="0">
                <a:srgbClr val="1b9ad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 документах ЮНЕСКО цели сформулированы так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получать знания (учить учитьс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работать и зарабатывать (учение для труда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(учение для быти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вместе (учение для совместной жизни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813600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т целям нашего школьного образования, сформулированным в ФГО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тности в современном обществ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ж. Раве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работать самостоятельно без постоянного руководств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брать на себя ответственность по собственной инициативе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проявлять инициативу, не спрашивая других, следует ли это делать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готовность замечать проблемы и искать пути их реше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анализировать новые ситуации и применять уже имеющиеся знания для такого анализ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уживаться с други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осваивать какие-либо знания по собственной инициативе (т.е. учитывая свой опыт и обратную связь с окружающими)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умение принимать решения на основе здравых суждений, т.е. не располагая всем необходимым материалом и не имея возможности обработать информацию математически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уровневая иерархия компетентностей (А. В. Хуторско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лючев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бщему (метапредметному) содержанию образования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обще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пределённому кругу учебных предметов и образовательных областей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 – частные по отношению к двум предыдущим компетенциям, имеющие конкретное описание и возможность формирования в рамках учебных предметов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мпетентностно – ориентированные задания являются способом оценки результатов в рамках компетентностного подход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16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тественнонаучная грамотность характеризуется тремя составляющ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знаниев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в который входят знания об окружающем мире и знания о естественных науках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омпетентност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под которым понимают умения применять имеющиеся научные знания к жизненным ситуациям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аффектив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й оценивает интерес и любознательность к естественным наукам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я, которые проверяют в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выделять информацию (объекты, факты, экспериментальные данные и др.), необходимую для нахождения доказательств или подтверждения выводов при проведении научного исследова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лать вывод (заключение) или оценивать уже сделанный вывод с учётом предложенной ситуаци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коммуникативные умения: аргументировано, чётко и ясно формулировать выводы, доказательства и др.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знание и понимание естественнонаучных понятий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ак составить компетентностно – ориентированные задания?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8:04:37Z</dcterms:created>
  <dc:creator>user</dc:creator>
  <dc:description/>
  <dc:language>en-US</dc:language>
  <cp:lastModifiedBy>user</cp:lastModifiedBy>
  <dcterms:modified xsi:type="dcterms:W3CDTF">2012-12-04T13:10:58Z</dcterms:modified>
  <cp:revision>13</cp:revision>
  <dc:subject/>
  <dc:title>PowerPoint Template</dc:title>
</cp:coreProperties>
</file>